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0BD-071E-462D-80AA-DA2C6DD8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A4B-D0A2-44C0-87F1-0D9816EC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6CD-570C-4008-884A-02A7A2BE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B69-F280-4022-8D04-3490FA8B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C1A9-9836-4DA1-ACF0-BC1771A8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E4F7-4808-40C4-87B9-CEDB52D6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1890-5815-4A51-A64D-27421773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7F16-AF1C-4CCF-809C-E98DEE1F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522C-CA01-4F94-ABC4-FA910C32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BAAE-5D34-4279-A60C-7D6F4230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C85F-A9C1-4153-B6F7-1F6E579B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D00-05F3-4D21-9184-DB4F3F62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A76F-C936-4B6F-95DC-F6D2A54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434A-4DAA-47A6-8FE6-018F96F6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F51E-1F01-40F4-94AF-28843F2F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BD17-8C32-43CF-9CBF-19E46984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441E-9E96-4A28-8780-A2A5BF71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2DF3-0537-4BE2-A503-40F54278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0A23-9B03-4C94-8F10-20D753B0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2D5F-7903-4937-BC65-A80D7D77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7535-8090-4F2E-9DB0-8C6F2FF9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47706-2431-4CE0-B07C-4131EB6D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3CA-42CE-41CE-BCBC-BAB8A52D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0675-243E-426B-BF0B-A7D2F60A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B6D7-97F5-40C9-BCB9-8798C8DA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A49B1-8223-46AE-9F7E-ABE1AF05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F3A8-81A8-469D-9676-3BF98A2A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5841C-1287-4286-978A-CECF8F0A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391B-25C6-4087-BE47-AE78A0CE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0C060-6DB4-450C-B224-03AD8935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256E2-3083-4C2C-B9E4-19A4A129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57F10-D090-4219-BEA6-2B1ADCE8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C9D82-5183-4AE6-AC1C-8CF44C21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0E8-202B-46F3-B2A3-CF7DE146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A0DC-B50E-4A6B-9AF7-BDCF0C59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6717A-EA68-4C83-B9C4-3F1FA750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28185-1342-4F63-BDD9-34F14829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D74BB-A95B-4629-BC2D-E5F39C89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5FF11-FF28-446C-9726-51ADA4EB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11956-D14B-4BAA-8727-EADE79B0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A9136-C162-40EC-A517-FF1A7125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CA7EF-36B2-4FFB-A2E2-521C6389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7144-542B-4DC8-B098-1FB3280E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462E1-75B9-4292-846C-7F04498D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C2C-AAB0-4438-8381-FFC8A709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209C2-BF38-4F95-80A4-EFC7C341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3105B-B133-4CA0-93BC-F5A1245E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5C62-8E45-4CB9-8D60-622B8D60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CBCA0-4069-4FA5-B31B-D44597D6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C7042-6D57-4219-8460-64825CAC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D9F19-F847-48BD-AD53-B839C68D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86849-31C6-45B3-A572-FB5A6BAF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883A2-046D-4FE3-B5D6-66D12B44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B475D-51EE-4328-8A6B-CB7B40A2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4A5B5-D5A9-4EAA-8EE6-37AABFE4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4CD-109A-4D0C-B4C7-D23FDE47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3B21E-0B92-4309-A317-46A5FD41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4691D-93E1-4CAD-B8D4-B9E891A1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DDD4B-B8CB-48F7-B059-1759574B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9DD4B-3232-462F-B313-92581C2F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AFB04-7ABA-4E31-9E2F-8920CAD5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869AF-FB62-4EF3-A6CC-A7CE04C6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E2C8B-E1EF-45A6-BE8B-943F66F1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7618A-906A-4CBD-A8BE-7AB08439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86B6E-FBB7-4D5E-A8EE-9207F92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BB33-855B-4F96-AB3F-92136CC5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B64-ABC6-44B3-BF0A-5D61325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53CD1-2D3D-47DC-A382-85EF8686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683D-7F27-4EB7-9181-6F762FE4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67007-DDA3-41DF-8329-8FEC9C1D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8585A-A787-4622-8C61-EC330B9F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91C52-1B6A-4B8C-ACE5-E57C30E0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1E93A-7561-4244-BF84-552EBAF6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4F504-0FB6-45B3-8D33-D6B43982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9C042-C469-4E46-B5C0-5A5DB79C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D9B53-BBFB-4A6C-AF1D-898B24F2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48F31-DF72-4579-A18C-AEBA5CDE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639-7790-4D34-AF02-F972E66C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4077E-12BD-41D0-BF65-E56E3117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690F0-80F3-431F-878E-B10FB0CC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909ED-447E-4847-B1DC-25B95C31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66078-4361-42DC-9FF0-72C81751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33833-B59B-40F7-8992-2B339525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599DB-E7A5-4D20-86BF-6716966A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E0B5E-0F72-4BE6-AD08-8A3E611A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2111B-F199-4D3A-9C51-762B97BC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5EFE0-C192-42F3-8715-AF69B20F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36177-DD27-400C-A487-B8835118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43F-3B16-40C6-8D1F-8E810999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FCF32-AA00-4560-8BBB-B2E8F2C7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761CC-DF37-4E3E-9719-C66625E8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5E273-8721-4615-851E-AE610360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AD2CD-E435-4953-8186-0B6B37AB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E2F1A-06A1-4D31-A4AD-2B63A718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3E1FC-4FDF-42AC-8639-0647E7FD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D0FE6-E30B-4BB4-9225-46B9C8EB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9C9A-0CC5-4ED7-8011-988B8340C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3F98-F977-4251-B5D5-E38C0712606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076F-EE8E-4C79-920B-0F07F0EAC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00C1-7BF4-4C83-A18F-38AF63F1DE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65C6-F492-4B8F-AF1B-1325FC1F0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4CE8-8EF7-48DC-8CEF-FC7B4461E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F887-E91F-442B-B131-12487B0B2C3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B355-34DD-4C92-929A-D47993BBCDC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5c9c"/>
                </a:solidFill>
                <a:latin typeface="Bell MT"/>
              </a:rPr>
              <a:t>The Oral History of Private Rutger Evans</a:t>
            </a:r>
            <a:endParaRPr b="0" lang="en-US" sz="6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Told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Californian FB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Danielle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Wolf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With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help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fornian FB"/>
              </a:rPr>
              <a:t>of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Alex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Garthrite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Megan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Murphy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fornian FB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Allison</a:t>
            </a:r>
            <a:r>
              <a:rPr b="0" lang="en-US" sz="2000" spc="-1" strike="noStrike">
                <a:solidFill>
                  <a:srgbClr val="ffffff"/>
                </a:solidFill>
                <a:latin typeface="Californian FB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fornian FB"/>
              </a:rPr>
              <a:t>Hartman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4345414669_212c3dd19e_m"/>
          <p:cNvPicPr/>
          <p:nvPr/>
        </p:nvPicPr>
        <p:blipFill>
          <a:blip r:embed="rId2"/>
          <a:stretch/>
        </p:blipFill>
        <p:spPr>
          <a:xfrm>
            <a:off x="762120" y="609480"/>
            <a:ext cx="2084400" cy="2590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4345414687_1603052ede_m"/>
          <p:cNvPicPr/>
          <p:nvPr/>
        </p:nvPicPr>
        <p:blipFill>
          <a:blip r:embed="rId3"/>
          <a:stretch/>
        </p:blipFill>
        <p:spPr>
          <a:xfrm>
            <a:off x="3276720" y="1219320"/>
            <a:ext cx="1550880" cy="2095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4345414309_66075491f1_m"/>
          <p:cNvPicPr/>
          <p:nvPr/>
        </p:nvPicPr>
        <p:blipFill>
          <a:blip r:embed="rId4"/>
          <a:stretch/>
        </p:blipFill>
        <p:spPr>
          <a:xfrm>
            <a:off x="990720" y="3962520"/>
            <a:ext cx="3352680" cy="2216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4346157878_5f6473e683_m"/>
          <p:cNvPicPr/>
          <p:nvPr/>
        </p:nvPicPr>
        <p:blipFill>
          <a:blip r:embed="rId5"/>
          <a:stretch/>
        </p:blipFill>
        <p:spPr>
          <a:xfrm>
            <a:off x="5257800" y="609480"/>
            <a:ext cx="3048120" cy="23241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4345414377_05b3026aab_m"/>
          <p:cNvPicPr/>
          <p:nvPr/>
        </p:nvPicPr>
        <p:blipFill>
          <a:blip r:embed="rId6"/>
          <a:stretch/>
        </p:blipFill>
        <p:spPr>
          <a:xfrm>
            <a:off x="5105520" y="4038480"/>
            <a:ext cx="30477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9" descr="4345414345_7df9030b6a_m"/>
          <p:cNvPicPr/>
          <p:nvPr/>
        </p:nvPicPr>
        <p:blipFill>
          <a:blip r:embed="rId1"/>
          <a:stretch/>
        </p:blipFill>
        <p:spPr>
          <a:xfrm>
            <a:off x="838080" y="3733920"/>
            <a:ext cx="3505320" cy="2430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4346157560_16a4fca9cb_m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2178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4346157896_ede9596cd6_m"/>
          <p:cNvPicPr/>
          <p:nvPr/>
        </p:nvPicPr>
        <p:blipFill>
          <a:blip r:embed="rId3"/>
          <a:stretch/>
        </p:blipFill>
        <p:spPr>
          <a:xfrm>
            <a:off x="4724280" y="838080"/>
            <a:ext cx="3353040" cy="2414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4346157548_5959cc96ac_m"/>
          <p:cNvPicPr/>
          <p:nvPr/>
        </p:nvPicPr>
        <p:blipFill>
          <a:blip r:embed="rId4"/>
          <a:stretch/>
        </p:blipFill>
        <p:spPr>
          <a:xfrm>
            <a:off x="5029200" y="3962520"/>
            <a:ext cx="2971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6" descr="4345414291_cbb02c59e8_m"/>
          <p:cNvPicPr/>
          <p:nvPr/>
        </p:nvPicPr>
        <p:blipFill>
          <a:blip r:embed="rId1"/>
          <a:stretch/>
        </p:blipFill>
        <p:spPr>
          <a:xfrm>
            <a:off x="5029200" y="4038480"/>
            <a:ext cx="3048120" cy="2016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345414277_526521ed94_m"/>
          <p:cNvPicPr/>
          <p:nvPr/>
        </p:nvPicPr>
        <p:blipFill>
          <a:blip r:embed="rId2"/>
          <a:stretch/>
        </p:blipFill>
        <p:spPr>
          <a:xfrm>
            <a:off x="4724280" y="1143000"/>
            <a:ext cx="3048120" cy="2019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4346157602_c5ca692879_m"/>
          <p:cNvPicPr/>
          <p:nvPr/>
        </p:nvPicPr>
        <p:blipFill>
          <a:blip r:embed="rId3"/>
          <a:stretch/>
        </p:blipFill>
        <p:spPr>
          <a:xfrm>
            <a:off x="914400" y="990720"/>
            <a:ext cx="2971800" cy="2055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4345414619_d5933daa33_m"/>
          <p:cNvPicPr/>
          <p:nvPr/>
        </p:nvPicPr>
        <p:blipFill>
          <a:blip r:embed="rId4"/>
          <a:stretch/>
        </p:blipFill>
        <p:spPr>
          <a:xfrm>
            <a:off x="762120" y="3809880"/>
            <a:ext cx="30477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4346157908_c439973687_m"/>
          <p:cNvPicPr/>
          <p:nvPr/>
        </p:nvPicPr>
        <p:blipFill>
          <a:blip r:embed="rId1"/>
          <a:stretch/>
        </p:blipFill>
        <p:spPr>
          <a:xfrm>
            <a:off x="4800600" y="685800"/>
            <a:ext cx="3733920" cy="2660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4346157948_1c5b3ec861_m"/>
          <p:cNvPicPr/>
          <p:nvPr/>
        </p:nvPicPr>
        <p:blipFill>
          <a:blip r:embed="rId2"/>
          <a:stretch/>
        </p:blipFill>
        <p:spPr>
          <a:xfrm>
            <a:off x="762120" y="3886200"/>
            <a:ext cx="3047760" cy="2095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4346157976_3041a58516_m"/>
          <p:cNvPicPr/>
          <p:nvPr/>
        </p:nvPicPr>
        <p:blipFill>
          <a:blip r:embed="rId3"/>
          <a:stretch/>
        </p:blipFill>
        <p:spPr>
          <a:xfrm>
            <a:off x="838080" y="1066680"/>
            <a:ext cx="3200400" cy="2106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4346157510_d465a8d65b_m"/>
          <p:cNvPicPr/>
          <p:nvPr/>
        </p:nvPicPr>
        <p:blipFill>
          <a:blip r:embed="rId4"/>
          <a:stretch/>
        </p:blipFill>
        <p:spPr>
          <a:xfrm>
            <a:off x="4876920" y="3962520"/>
            <a:ext cx="300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3244253505_564306f466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3251115323_5fa4a6d67f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84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3:17:35Z</dcterms:created>
  <dc:creator>Information Technology</dc:creator>
  <dc:description/>
  <dc:language>en-US</dc:language>
  <cp:lastModifiedBy>Information Technology</cp:lastModifiedBy>
  <dcterms:modified xsi:type="dcterms:W3CDTF">2010-02-17T14:59:03Z</dcterms:modified>
  <cp:revision>7</cp:revision>
  <dc:subject/>
  <dc:title> </dc:title>
</cp:coreProperties>
</file>